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5CC-05ED-4087-BCC4-25BEDD5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CA0-41A6-4DAE-8435-B13AE029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5EE-3DC6-421A-B537-42094877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705-FBBC-4466-B248-A6AA9A42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71D-4CCA-4607-B5E9-036281CC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3F6-F740-4A43-B3D0-4581319B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FCA-56B9-4916-BD38-ABC164B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E9B-99DB-4EF1-9641-36F53883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19C-5734-4D9C-B86E-1FA54AF2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022-8852-4E6A-BCE7-AC0A6794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6EF-182F-4940-A3E4-B5C163D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EBA-C7EC-400E-BC58-586E053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109-C919-4A66-AE55-C7398F43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at Abraham Lincoln was the most honest person on earth but till he died. John Booth, he was out of his mind to kill a very nice president and this is how we treat this nice and his name is Abraham Linco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 our first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a surve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ll got sick and DIED even   tough he chopped down that cherry tre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52680" y="3809880"/>
            <a:ext cx="36435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21:33:31Z</dcterms:created>
  <dc:creator>Carolyn Spielmann</dc:creator>
  <dc:description/>
  <dc:language>en-US</dc:language>
  <cp:lastModifiedBy>Carolyn Spielmann</cp:lastModifiedBy>
  <dcterms:modified xsi:type="dcterms:W3CDTF">2010-02-08T21:41:45Z</dcterms:modified>
  <cp:revision>4</cp:revision>
  <dc:subject/>
  <dc:title>Comparing president </dc:title>
</cp:coreProperties>
</file>